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B72-E57C-45A2-AFF5-3F92EBFF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F64-ADFA-485A-91FA-0B5AB13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E6D-7C33-49C3-BE49-DC95F205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C8D-B444-44E0-9B85-343BE683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FC4-073E-43FD-AFFD-A39B98E2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C1FB-F782-4EAC-BC94-BD538B4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C38-80D0-455F-8241-87F90D7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1B02-98CA-4244-A73C-312B1180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19FC-43D2-4D9E-8068-38A42CDB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BEB7-36D0-4E26-87C6-874F3A28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DA3B-4B31-4CCB-A057-A90BA3D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572-7EB4-4922-B3D9-652A6D9A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A84D-2CF2-4FB7-B7D4-E785259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4A7-AE64-4351-A706-3127A2B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D066-F039-4433-8BD6-43D6E582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1EFB-6FBC-459A-8CF1-7D79E5F4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5F74-5830-4F2D-8334-F7A587D5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6D44-D015-46EF-A962-618579B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1BA6-8DB6-4E79-B3FC-DA9B9EF4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CA71-3AEA-4057-AD39-AF73237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F592-E2C8-4EF4-AFED-CFDC207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6BF5-9E02-4818-9A94-9499906F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D93-4481-4A21-B99A-19F6D5B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2003-A6A2-4DC9-AABB-CB57EC06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C27B-82C5-44E9-918C-34894CF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F9E9-C64C-4FF7-ACFE-B708CCD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F62A-8E70-4CF3-A9CF-2284CF9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13B5-ABD4-4F71-A0DA-0C423463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839E-1DEA-4F4F-99BD-594A2F4A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9D4C-53E5-43B0-B3EE-96262575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809E-8AB8-47DB-B1E1-66A76DEC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8CCD-30C2-4248-86E7-14D30A0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7FFE-A7F0-4AD2-8D0E-585C826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9A2-E835-4BA8-8C6D-64DD9B3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E179-B072-439D-96BA-6522BEEC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2882-BB38-4752-BEF1-6E4C686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68A9-04C6-4E51-85A6-5746D41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0F26-2E47-4464-AE99-72D9688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7873-7E33-4679-967D-18C2D96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98B9-F82C-4672-A018-F980140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8378-12D9-4AB5-ADD6-B5E32159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B61F-FC17-49BE-BDE8-C77C4A38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221E-F9A1-47B3-A441-6C34680F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4ACD-6B70-404B-BE91-08807051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93A-1C70-4CD0-BFDD-6535E36D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CA46-EFE1-4AB1-B817-FEF1E83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5CA4-FD36-43E1-AE38-26E76638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2893-3C1B-4AFE-8243-DF64EC9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1B59-4029-4821-8D75-04E577B1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E3DB-E6D5-4F24-BFA1-FFC9C66A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EEA25-71BA-4917-A992-F0B73CC2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9C92-29E9-4C95-B988-FA1BE58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0B37-F34E-461B-A58D-39620B1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F30DB-A4E1-4FB8-9C71-019CD64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9094-8829-4F8C-AE7E-36F2D76A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B13-DFF7-4BEE-A1B8-5E907E5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E2E5-EBED-4FC7-BA2D-B8C3D345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170-6819-427F-8A4C-4771E9F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188-F430-44AB-9100-3329C479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B8E-504A-4C05-A126-3469540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EF58-115F-4214-9156-034027978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D57-CA9A-4473-B2F7-DBDDF722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8F29-53C9-40C7-9E45-E5E4AF409C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4DB3-9F67-44C4-8163-C4F5A8FCF18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639D-222D-4617-B783-EB0CA96F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bs.org/wgbh/nova/methuselah/phot_flash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Photosynthesis and Cellular Respiration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38080" y="201600"/>
            <a:ext cx="7315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212760"/>
            <a:ext cx="84582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vin Cycle (light independent or “dark” reactio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 and NADPH generated in light reactions used to fuel the reactions which tak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reak it apart, then reassemble the carbons into gluc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aking carbon from an inorganic molecule (atmospheric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making an organic molecule out of it (gluc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version of how carbon and energy enter the food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38080" y="196920"/>
            <a:ext cx="74678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vesting Chem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see how energy enters food chains (via autotrophs) we can look at how organisms use that energy to fuel their 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nd animals both use products of photosynthesis (glucose) for metabolic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ust take in energy from outside sources, cannot make their own e.g.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take in glucose (or other carbs), proteins, and fats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foods don’t come to us the way our cells can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>
            <a:hlinkClick r:id="rId1"/>
          </p:cNvPr>
          <p:cNvPicPr/>
          <p:nvPr/>
        </p:nvPicPr>
        <p:blipFill>
          <a:blip r:embed="rId2"/>
          <a:srcRect l="16405" t="21878" r="29687" b="17709"/>
          <a:stretch/>
        </p:blipFill>
        <p:spPr>
          <a:xfrm>
            <a:off x="1104840" y="514440"/>
            <a:ext cx="727704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ar Respiration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of chemical energy in food into chemical energy cells can use: 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actions proceed the same way in plants and animals. 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Re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ar Respiration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down of glucose begins in the cytoplasm:  the liquid matrix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oint life diverges into two forms and two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erobic cellular respiration (aka fer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R. Re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 reactions which break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carbon gluc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 down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3-carbon molecules called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s an ancient one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rganisms from simple bacteria to humans perform it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s 2 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 for every one glucose molecule broken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s 2 N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glucos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G IDE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Must recogniz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organelles responsible for energy </a:t>
            </a:r>
            <a:r>
              <a:rPr b="1" i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transformation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 is made available through chem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organelle truly produces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gy is neither created 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produce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heir own set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erobic Cellular Respi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isms thrive in environments with little or n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es, bogs, gut of animals, sewage treatment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xygen used= ‘an’aero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in no more 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al steps in these pathways serve ONLY to regenerate NAD+ so it can return to pick up more electrons and hydrogens in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products such as ethanol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ingle cell fungi (yeast) in beer/bread)  or  lactic acid (muscl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307800"/>
            <a:ext cx="678168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erobic Cellular Respira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 required=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re sets of reactions which occur in a specialized structure within the cell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Kreb’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reb’s 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s the breakdown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he pyruvate (3-carbons) and breaks it down, the carbon and oxygen atoms end up in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s and electrons are stripped and loaded on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D to produce NADH and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 of only 2 more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loads up the coenzymes wit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lectrons which move to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627120"/>
            <a:ext cx="87631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carriers loaded with electrons and protons from the Kreb’s cycle move to this chain-like a series of steps (stairc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lectrons drop down stairs, energy releas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 total of 3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waits at bottom of staircase, picks up electrons and protons and in doing so becomes water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2280" y="627120"/>
            <a:ext cx="87631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Tal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ATP for aerobic vs. 2 ATP for 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lysis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b’s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erobic organisms can’t be too energetic but are important for global recycling of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839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733400" y="228600"/>
            <a:ext cx="567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&amp;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5920" y="1328760"/>
            <a:ext cx="83437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converting sun energy into chemical energy usable b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elf feeders, organisms capable of making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use sun energy e.g. plants photosynthesis-makes organic compounds (glucose) from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oautotro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use chemical energy e.g. bacteria that use sulfide or methane   chemosynthesis-makes organic compounds from chemical energy contained in sulfide or 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place in specialized structures inside plant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bsorbing pigment molecules e.g.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hydrate made is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er appears on both sides because 12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olecules are required and 6 new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olecule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er is split as a source of electrons from hydrogen atoms releasin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a by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ns increase potential energy when moved from water to sugar therefore energy is requ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light energy is absorbed by chlorophyll molecules-this light energy excites electrons and boosts them to higher energy levels.  They are trapped by electron acceptor molecules that are poised at the start of a neighboring transport system.  The electrons “fall” to a lower energy state, releasing energy that is harnessed to make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Shutt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ellular energy-nucleotide based molecule with 3 phosphate groups bonded to it, when removing the third phosphate group, lots of energy liberated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b molecule for shuttling energy around within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energy shuttles-coenzymes (nucleotide based molecul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ove electrons and protons around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P+, NADPH        NAD+, NADP      FAD,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light capturing unit, contains chlorophyll, the light capturing pi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 transpor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sequence of electron carrier molecules that shuttle electrons, energy released to mak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in chlorophyll must be replaced so that cycle may continue-these electrons come from water molecules, Oxygen is liberated from the light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reactions yield ATP and NADPH used to fuel the reactions of the Calvin cycle (light independent or dark re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2:09:49Z</dcterms:created>
  <dc:creator>OEM</dc:creator>
  <dc:description/>
  <dc:language>en-US</dc:language>
  <cp:lastModifiedBy>joconnor</cp:lastModifiedBy>
  <dcterms:modified xsi:type="dcterms:W3CDTF">2010-10-28T15:36:47Z</dcterms:modified>
  <cp:revision>20</cp:revision>
  <dc:subject/>
  <dc:title>Photosynthesis and Cellular Respiration</dc:title>
</cp:coreProperties>
</file>